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35B-A345-446B-BE9F-301E87B8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EC2-6366-4A7B-8A6E-EFED5DFC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6FA-A5CB-4EF2-B551-1CA267AC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E51-EC28-415D-9179-EA3C5C22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AA9-5FE8-44EA-BEEA-13D18E50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9622-51DF-4564-87D2-6B5273A6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610-3CA0-4227-86F4-C965FF04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A81-3C70-468E-88EB-5D453304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8A5-7577-4DDC-9A8C-0C0E1F79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DAC-4075-4DCB-B5BD-5A1FE2C7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593-9C19-41E4-AE56-1C2AC2E3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DC3-156C-415C-BE23-515C72D5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FF94-39A0-489F-BEE8-54D1C4F74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962520" cy="70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تعالوا إلى مائدة الر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نستقِ من منبعِ الح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ها قد حان وقتُ اللق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صوتُ الرب ينادينا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3962520" cy="90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ن يأكل من خبزك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ث الحياة الأبد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ربَّنا، ربَّنا، أعطنا خبزكَ، دوماً أعط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76197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276720" cy="9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تعالوا إلى مائدة الر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نلجأ من وحشة الحر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 القربان ملك السل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ه ملء أماني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04920"/>
            <a:ext cx="3962520" cy="90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ن يأكل من خبزك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ث الحياة الأبد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ربَّنا، ربَّنا، أعطنا خبزكَ، دوماً أعط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33720" y="0"/>
            <a:ext cx="76197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14600" cy="83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تعالوا إلى مائدة الر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نهتدِ في ظلمةِ الدر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هو الرب آتٍ يج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يُشبعنا ويَهدي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04920"/>
            <a:ext cx="3962520" cy="90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ن يأكل من خبزك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ث الحياة الأبد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ربَّنا، ربَّنا، أعطنا خبزكَ، دوماً أعط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0925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3809880" cy="68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عالوا إلى وليمة الر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شرب من خمرة الح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أس الحياة طاب لن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اض من قلب فادي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304920"/>
            <a:ext cx="3962520" cy="90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ن يأكل من خبزك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ث الحياة الأبد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ربَّنا، ربَّنا، أعطنا خبزكَ، دوماً أعط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7:14:02Z</dcterms:created>
  <dc:creator>SUZANNE.MD</dc:creator>
  <dc:description/>
  <dc:language>en-US</dc:language>
  <cp:lastModifiedBy>HANI SAFI</cp:lastModifiedBy>
  <dcterms:modified xsi:type="dcterms:W3CDTF">2003-04-17T11:12:44Z</dcterms:modified>
  <cp:revision>2</cp:revision>
  <dc:subject/>
  <dc:title>PowerPoint Presentation</dc:title>
</cp:coreProperties>
</file>